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2828B-48F7-4047-9FBE-48EA9F35B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D36E-7BDB-4A70-9B0C-A5316D06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1A89F-41C1-4898-BD08-23E85FB6A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34535-2EBA-47AF-82FC-9E8B3947E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5CB4-0730-4DE2-96F7-FA991245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B90A-C247-4D9B-93E0-F3D445C15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F827-F4AA-4A87-AC7F-E29B7C961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6085-CAE5-4BFB-A7A2-A30DB2C26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13455-1B3C-41C3-8C02-247555DE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47FE-5A97-48D0-960E-0771CFE48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90F9-A8A4-4148-AEEF-97635127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3EC5-4B82-4096-9590-9F159733B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CDB9-59FD-44F2-97D6-BE25F35A7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533520"/>
            <a:ext cx="8229600" cy="63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political, diplomatic, military, ideological and cultural struggle between America and the USS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hortly after World War II and ended with the demise of the Soviet Union in 199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involved nearly every nation on Earth, and completely dominated world affairs for more than fifty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 development and deployment of large numbers of nuclear weapons that threatened the very survival of the human 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eer destructiveness of those weapons precluded their use and introduced a new level of caution and restraint in great power relatio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d War created conditions for savage and destabilising conflicts - Vietnam and Korean W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also imposed strict limits on the conduct and expansion of these wars and restrained the outbreak of nationalist and ethnic conflicts throughout the wor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linton, America's first president elected after the end of the Cold War (and thus the first to confront the outbreak of post-Cold War ethnic violence), said half in jest in 1993: ‘I miss the Cold War. [. . .] We had an intellectually coherent thing. The American people knew what the rules we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tually Assured Destruction (MAD): </a:t>
            </a:r>
            <a:r>
              <a:rPr b="0" lang="en-US" sz="4000" spc="-1" strike="noStrike">
                <a:solidFill>
                  <a:srgbClr val="000000"/>
                </a:solidFill>
                <a:latin typeface="Arial"/>
              </a:rPr>
              <a:t>The nuclear policy first voiced by U.S. Secretary of Defense Robert McNamara in the 1960s. It meant that the retaliatory—or ‘second strike’—might of the superpowers’ respective thermonuclear arsenals prevented either side from launching a successful first strik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2:05:40Z</dcterms:created>
  <dc:creator>NBDOE</dc:creator>
  <dc:description/>
  <dc:language>en-US</dc:language>
  <cp:lastModifiedBy>DT06</cp:lastModifiedBy>
  <dcterms:modified xsi:type="dcterms:W3CDTF">2010-05-03T19:20:09Z</dcterms:modified>
  <cp:revision>11</cp:revision>
  <dc:subject/>
  <dc:title>The Cold ar</dc:title>
</cp:coreProperties>
</file>